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57416-872D-4EB4-8A61-D71CBC469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81BD-7CFE-4263-8D5E-0A132FF78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0CCC5-D6CF-46A9-9324-27FF4D8C7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3DD0C-7F6C-4E92-A74F-875DAF0CD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3E2BD-1BF4-4706-9C36-031A66801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FC9A7-C1D1-4A3F-BAFB-5133BF1D6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E6144-9F62-4F2A-A638-BACB78E5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79ADB-D6D5-4A59-A6BB-8992F13AB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9C80F-C40D-4AFF-A646-75CFD8FE8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A378-A743-4F78-A99E-CFDDBC87A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F3CCD-4EAC-482E-9AA5-3BD1FAE04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0AF4-1637-43AC-AEFF-BB4CB9D59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821D-052E-48F2-B697-8D93CA8B2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igration Fi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600200" y="2590920"/>
            <a:ext cx="6400800" cy="228600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dentify and explain changing source areas for immigrants to Canada since 192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and explain changing destinations within Canada for migrants and immigrants since 192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and explain the nature of emigration from Canada and its impact since 19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Flash movie: One hundred years of immigration to Canada. Opens new browser window."/>
          <p:cNvPicPr/>
          <p:nvPr/>
        </p:nvPicPr>
        <p:blipFill>
          <a:blip r:embed="rId1"/>
          <a:stretch/>
        </p:blipFill>
        <p:spPr>
          <a:xfrm>
            <a:off x="1447920" y="914400"/>
            <a:ext cx="5486400" cy="37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457200" y="457200"/>
            <a:ext cx="8305920" cy="7394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migration to Canada was at a peak before the First World War because immigrants were offered free land in the west. The Government of Canada ran advertising campaigns in other countries to entice immigrants to this country. By the 1920’s the wave of immigration had begun to slow but between 1919 and 1929 - 1.3 million people still moved to Canad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1921 to 1940 the top immigrant source countries we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tish Isl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Stat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n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i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zechoslovaki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lan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990720" y="990720"/>
            <a:ext cx="7162560" cy="501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12.statcan.ca/english/census01/Products/Analytic/companion/etoimm/imm.cfm</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1950 and 2000 what new immigrant groups were added?</a:t>
            </a:r>
            <a:endParaRPr b="0" lang="en-US" sz="3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by decade the immigrant groups that were not included between 1921 and 1940.</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533520" y="304920"/>
            <a:ext cx="8153280" cy="548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http://agora.virtualmuseum.ca/Agora/ViewLoitDa.do?method=preview&amp;lang=EN&amp;id=2842</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e chart on next p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4876920" y="5334120"/>
            <a:ext cx="3962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000000"/>
              </a:solidFill>
              <a:latin typeface="Arial"/>
            </a:endParaRPr>
          </a:p>
        </p:txBody>
      </p:sp>
      <p:graphicFrame>
        <p:nvGraphicFramePr>
          <p:cNvPr id="48" name=""/>
          <p:cNvGraphicFramePr/>
          <p:nvPr/>
        </p:nvGraphicFramePr>
        <p:xfrm>
          <a:off x="1523880" y="1397160"/>
          <a:ext cx="6096240" cy="2225520"/>
        </p:xfrm>
        <a:graphic>
          <a:graphicData uri="http://schemas.openxmlformats.org/drawingml/2006/table">
            <a:tbl>
              <a:tblPr/>
              <a:tblGrid>
                <a:gridCol w="762120"/>
                <a:gridCol w="762120"/>
                <a:gridCol w="761760"/>
                <a:gridCol w="762120"/>
                <a:gridCol w="762120"/>
                <a:gridCol w="761760"/>
                <a:gridCol w="762120"/>
                <a:gridCol w="76212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9" name=""/>
          <p:cNvGraphicFramePr/>
          <p:nvPr/>
        </p:nvGraphicFramePr>
        <p:xfrm>
          <a:off x="565200" y="498600"/>
          <a:ext cx="8062920" cy="4305240"/>
        </p:xfrm>
        <a:graphic>
          <a:graphicData uri="http://schemas.openxmlformats.org/drawingml/2006/table">
            <a:tbl>
              <a:tblPr/>
              <a:tblGrid>
                <a:gridCol w="631800"/>
                <a:gridCol w="1230120"/>
                <a:gridCol w="1181160"/>
                <a:gridCol w="1228680"/>
                <a:gridCol w="3791160"/>
              </a:tblGrid>
              <a:tr h="430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graphicFrame>
        <p:nvGraphicFramePr>
          <p:cNvPr id="50" name=""/>
          <p:cNvGraphicFramePr/>
          <p:nvPr/>
        </p:nvGraphicFramePr>
        <p:xfrm>
          <a:off x="0" y="0"/>
          <a:ext cx="8915400" cy="6172200"/>
        </p:xfrm>
        <a:graphic>
          <a:graphicData uri="http://schemas.openxmlformats.org/drawingml/2006/table">
            <a:tbl>
              <a:tblPr/>
              <a:tblGrid>
                <a:gridCol w="1782720"/>
                <a:gridCol w="1782720"/>
                <a:gridCol w="1784520"/>
                <a:gridCol w="1782720"/>
                <a:gridCol w="1782720"/>
              </a:tblGrid>
              <a:tr h="67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tr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s of Immi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sh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ll Facto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ain what they a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Is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g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ed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6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ast Asia</a:t>
                      </a:r>
                      <a:br>
                        <a:rPr sz="1800"/>
                      </a:br>
                      <a:r>
                        <a:rPr b="0" lang="en-US" sz="1800" spc="-1" strike="noStrike">
                          <a:solidFill>
                            <a:srgbClr val="000000"/>
                          </a:solidFill>
                          <a:latin typeface="Arial"/>
                        </a:rPr>
                        <a:t>India, Pakistan, Banglade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7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ast Asia</a:t>
                      </a:r>
                      <a:br>
                        <a:rPr sz="1800"/>
                      </a:br>
                      <a:r>
                        <a:rPr b="0" lang="en-US" sz="1800" spc="-1" strike="noStrike">
                          <a:solidFill>
                            <a:srgbClr val="000000"/>
                          </a:solidFill>
                          <a:latin typeface="Arial"/>
                        </a:rPr>
                        <a:t>Sri Lank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al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a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ch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gan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457200" y="685800"/>
          <a:ext cx="8077320" cy="8105760"/>
        </p:xfrm>
        <a:graphic>
          <a:graphicData uri="http://schemas.openxmlformats.org/drawingml/2006/table">
            <a:tbl>
              <a:tblPr/>
              <a:tblGrid>
                <a:gridCol w="2666880"/>
                <a:gridCol w="5410440"/>
              </a:tblGrid>
              <a:tr h="457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m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54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 is no longer the maj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rea for immigrants t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e coming from Asian countries (China, Korea, India) because in the 1960’s the immigration act changed a point system so more people could come from these countries. Less racist immigration polic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2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 of political unrest led to hig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s of arrivals to Canad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refugees from areas of political unrest like Somalia, Chile, Uganda were accepted into Canada. Canadian immigration policy accepts refuge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anada experienc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downturns, immigra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w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imes of economic depression there are not as many employment opportunities in Canada so immigrants are less likely to settle here. There was less immigration during the Great Depression of the 1930’s and the economic downturn of the 1980’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52" name="Rectangle 76"/>
          <p:cNvSpPr/>
          <p:nvPr/>
        </p:nvSpPr>
        <p:spPr>
          <a:xfrm>
            <a:off x="3202200" y="228600"/>
            <a:ext cx="246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igration Patt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228600" y="380880"/>
          <a:ext cx="8229600" cy="5639040"/>
        </p:xfrm>
        <a:graphic>
          <a:graphicData uri="http://schemas.openxmlformats.org/drawingml/2006/table">
            <a:tbl>
              <a:tblPr/>
              <a:tblGrid>
                <a:gridCol w="2717640"/>
                <a:gridCol w="5511960"/>
              </a:tblGrid>
              <a:tr h="148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is looking for skilled rath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 unskilled work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system in Canda encourages immigration by people with work skills that we ne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migrants to Canada tend t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 in central and wester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igrants were encouraged by the Canadian government before World War I to settle the prairies. The port of Vancouver in British Colombia has long served as the gateway for immigrants from Indochina entering Canada.  Central Ontario has a larger urban centres so immigrants are more likely to find life easier inside a familiar cultural group that has already been established in an urban are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urban centres, rather tha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ral areas are major attractions fo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re employment opportunities for immigrants in urban areas. After World War II the economy of Canada was less based on farming and more focused on industry. Immigrants filled jobs in the new manufacturing sectors and helped to build city infrastructure in larger urban area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00:00:37Z</dcterms:created>
  <dc:creator>NBDOE</dc:creator>
  <dc:description/>
  <dc:language>en-US</dc:language>
  <cp:lastModifiedBy>DT06</cp:lastModifiedBy>
  <dcterms:modified xsi:type="dcterms:W3CDTF">2009-12-10T20:20:07Z</dcterms:modified>
  <cp:revision>25</cp:revision>
  <dc:subject/>
  <dc:title>Immigration Notes</dc:title>
</cp:coreProperties>
</file>